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1A0C5FEA-B7B3-4CDA-B0F6-DCC1AEF54B85}" type="datetime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26/0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BCA6D3A8-83A9-478A-B2CA-2A65AFF1EC5C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21A-2608-4C98-BA11-538C03BFCF28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3871-B9F2-4BBB-BE57-96249ED0E54B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CCC-66B4-4632-B9DD-C6E6C541E59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D52-1E9C-432D-9160-79D02D5EC685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589F-C96C-41FE-AC0B-534CB215244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7CE7-A217-4488-9182-FB4B362F7B8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254-1742-4C58-9BAA-203AE57D2EEB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9A1-3DF7-465D-9B27-C2CB6AB32C3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D77A-787D-4270-9171-A6807E3ECCAC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EE7-0F20-4EA7-8CE7-2B34E59B101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EF6B-06CB-4EC0-8811-2FD26CC0535C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A6A-F337-4271-A7AF-08FA38774B7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3135ABF4-7851-418A-B4B6-BA6E08B75094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01FF867E-3E03-4A12-BB4E-7AAF4CD2C090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1CED-8178-42B2-AFB4-E8671C9F1C4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57A-C2B5-4B08-AC6B-AE97AFB62C9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09E-FFF2-4A08-BBB5-D42DAF3EB54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B061-20A9-47FD-A499-C6DEF79046B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6B6-25E8-412D-B45A-1491FE21643E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8E2-F802-4B7A-98D5-6F24925F0EF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21A-7CDD-4C9E-8ABB-5D00F1D0297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87F-8FA7-41E9-A99C-B959D885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046-4648-44B7-AC05-D774B800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975C2-440C-4D4D-9BA4-1097A6A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637F1-FAB8-4842-8AA6-9B1481A0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E8980-2853-457D-B824-231A34C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3116F-FE1C-44A8-BD59-7B96EB8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A74A8-418B-4F0E-B49C-9D13B4F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7EE23-6D63-47B5-9A42-C53A22F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B3D53-A9B7-490C-B040-36DAC058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74DB6-48F4-4E69-B81F-1AE9C22E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40D3B-3468-4AFA-B7CF-6BC299A4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C1B1-C29F-4098-AD05-D614CFF3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FAE-A61B-4FCA-9CF4-A45348F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87DB3-C63C-4B74-92F8-191C2C24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59D83-7050-49F9-918F-057DC923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0BDE3-4775-4605-B505-697341F1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B0A60-537D-44BC-BDE6-BC2C5FB3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9D1F4-BA91-48DF-ABED-7703963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962C5-4615-47F8-82CB-EC220287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39608-1CD2-4C93-9DCA-64F5B59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42A2A-6B0F-4D7B-A6A4-68E982D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1C26E-B5CE-4BDE-9FA8-720A8263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73D7F-FC2E-437C-B4AC-0E7FC004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AE4-87FE-4DF1-AFFA-5DC6F82E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F6328-A4C0-47B8-8FBB-AD65AFE9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29295-987A-4B9D-8276-A3EDB3DB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BA9CD-4B44-40B2-88D1-D4DAA75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654DD-7BE2-4EC1-BECE-4058894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05838-7039-4DF8-845A-33265D5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8E093-6902-416B-9B1B-FF49830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F3DB-4EDB-4265-B7F0-5C5B3FB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DE32F-1C0C-420F-8490-E78562F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18F7-75FA-410B-B96A-30197DB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1BF88-ED17-4C95-BAEB-EF15B16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4A4-11C6-4C69-A265-58E4C267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FCF0A-72E5-4DE9-A7B8-4CE94583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0E7F-AB79-4A2F-919F-8226BB35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8073B-B5AF-48C8-949D-877C9577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7E86-BE82-4604-B5D7-FCE1E3F6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24226-8FE0-45A7-B9AE-23FB167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36BCC-E64A-48D6-8E77-291111B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99CA0-FB44-4709-B657-DD8225B6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DF426-C009-4CF3-93EA-541A82A8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B52B2-42DD-4487-9ABA-21E943B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8B827-23E2-4853-ACBE-1295799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C1F9-08FD-4D64-9D27-A089E6A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46410-0389-41A8-B976-7BEDB12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F373F-E74E-4BA6-ADBE-3EC88C78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0AA3-B403-4F8F-8808-39C0550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D2A0B-95D8-43D8-B199-D8C81EE0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4D6AC-DB93-460D-9DE5-C3674D18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F650C-3DDB-4EF7-81C4-4EF868F9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83BC6-7E29-450D-9528-F125F7E6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B79B6-7317-4192-9A35-3C5B419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4F7F3-CE98-4A9F-9AEB-2E03176A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A7B67-1AF0-45B9-A905-F64F4379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36E5-9DAC-43CA-AFEE-8D0CD21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228E3-D367-441F-A9A1-8C60F7C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F1393-AF8A-48B7-9B0A-B2B9222F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464A5-E1EF-4CA6-AE5F-27DEDA9C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E11A2-B007-4C02-941F-6799F883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6AF72-F0C5-4C2F-A993-6E51162C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08D23-AFA0-4A8F-A66B-D21D31F7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BE462-B7B8-4EF8-A907-0181FDB7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CF4B5-05F2-44FB-ADDC-A6BB51A0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791A8C-700A-47DF-8CDB-3307B749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5BF00-BA7E-470D-931C-2E01DFC3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2F63-51C3-4D89-B63D-41F2C098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BD070-242C-48A4-BC28-9966BC73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7C642-9A59-4A72-8C77-14A5847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7FC19-B4A9-4519-B256-D45BB7F1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F9DC6-2348-4B5C-8876-159BC41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D9380-6963-47AA-9163-7FFD3F3F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CAA11-1391-4A54-878F-E187470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474A0-22BA-4D1D-AA79-827C2390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0D7A7-0D37-45F0-9DB6-5A6ED825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51D01-4F0B-4257-B3A1-30D5AD46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02CA9-DC4B-4E39-A228-F782208C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0298-EEE0-4AC1-9A45-C474C7F0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28F29-1176-47B4-A64A-0ED759CC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2EAE2-26CC-484A-88EA-CBD5D915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EBC49-1755-41AA-9DF1-7F21A3D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A37BC-3B3D-4AC1-896C-4BEAF4A2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C2DE6-1022-4261-B722-59F3F7C6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C01D9-8A11-43AD-82D6-603391CB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FC72C-90F6-4473-9082-0235F9F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CDDBD-4742-4465-8B99-13B492B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50F2B-7638-4989-A70E-618BC1D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866F9-80AD-4F8D-9F34-8321DF91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5554-4FFB-441E-B496-FC1A334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7ED9F-09A5-490C-BCD6-74FB17D1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CE03C-77FA-4603-B397-117830E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51B16-7240-4148-A3C9-994A776B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20C54-D8D4-43FE-AB60-DE5C881C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1C711-8E0F-4836-9E69-17B385C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51C2D-9DE4-46D4-8E39-7C853B9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798FB-0C03-4298-B159-E9DC672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9A4BF-7CAB-4C56-AF24-52FE064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3952F-9EBF-4869-B0EA-D6D229D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47182-2387-492D-A236-52E57E1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03D1-F5BE-4371-95D0-D096173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1B47B-52D9-4F16-8595-D847BB5B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CDBC8-8DC4-48C0-950E-3177C689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E8BBD-8F2A-48C4-A27D-6F1610E5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50FDA-04F5-4FED-89D6-16A14AD0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DC0F4-310F-4872-829C-772AB68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CB934-AA2B-4D86-874A-3927A4EA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4DBF6-A156-44E2-9CAF-F3995C1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4CBAAB-B2B4-4FF3-B262-8E497AC7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3AF25-1075-40B0-8923-18A2F45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420E2-98C6-483F-9C18-911A139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421-D183-450B-8F46-3A76CB21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CEB9-11FE-4764-A7A1-FED0668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325FE-1AAC-4788-BDBE-DE9FCA0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D1996-5337-4E0B-A651-D83C782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88247-7511-4C48-99E8-DB2C6136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364DA-5F31-4F48-ADF4-D974FDC6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CFD38-435C-4C0E-B112-2E668233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B604D-030B-4A09-BC9B-3378E053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DC973-E598-40D9-AFB3-4E0A611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BFD2E-A535-47D4-9951-A066400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9C8E4-4EA1-4500-98FA-0F154D01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E2C02-9DB0-48D1-AA3E-5655CAA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F9F-FB13-45E1-AD46-6B4A54C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11E4D-7611-4A49-8B4E-3AB27548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64FE3-3A2E-4780-9C7D-32B5BA0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7B7ED-C8E5-4A99-9A10-6FBC8BE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BD356-B0FD-494D-B5E7-11EF166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99AE5-2029-451C-B5E6-C61EDC4E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3BD32-FCE2-417A-9024-A5A68BDE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F31E8-49A2-4F4F-9AE8-D332BD92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EE370-B51E-40CE-B07F-0FFE23B5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FE26A-E995-46E0-BA77-41AFBE4B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8E271-AA55-4A9E-8EC4-D587E48D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F810-B5B2-48E1-A9E9-80DC351D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47E61-BF46-4A31-88DB-AFDEE046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ED2AE-CC3A-459A-8227-AE1978B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5A348-53AB-421F-AE8D-C2B564C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C7307-2811-4EA7-B4F8-9A1C042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17FAF-121C-475B-8D1F-8F2EFEF1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2EAB0-38AB-4E99-8F60-885FF21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9263A-4E74-45C6-8F27-31A5AA0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89EFF-FCB9-45E5-A6D8-F24D3331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5C29F-DE69-4839-90EA-E513E6C5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A58ED-E8FE-4D55-A252-3B7F24F6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896B-8A09-4E28-847F-477D2E1D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D4335-4A1C-4D83-840D-99FAB5B9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537371-D0CA-4A9F-B956-7D8134D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84784-2180-4526-8124-462DF34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038CB-EB5C-414C-8506-5791ECB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75B008-FF43-45A1-84B1-66F8695C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C3284-7D5A-4992-B0FE-68B13C9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6844C-EFC3-4787-AE4A-AC188AF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1FFA3-9B55-40F3-9760-4B92207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C2E96-870A-4D58-8E2F-D2447C3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73AEA-DAE0-4D18-B708-DE2A13C9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8A20-2F5C-4B4F-89BD-40C771A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54EC2-EDAC-4AD7-A39B-2CB21795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4A3A-C0DC-42EC-89FA-08DFB1C6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3095-C397-4ABB-9838-C64FDEF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67EE-5FE7-464C-8AC1-5F94E8F9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5671-243D-489F-9A71-73F96D59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D1E8-D973-4684-9F5D-A9166F0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AF6-3116-472C-A01F-076CE32E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B5CE-F682-4714-A406-DBF33F9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3C5C-2137-4143-83EF-801772F4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3EE7-F0D0-4FCA-88F0-DDEA8452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3952-3693-41CC-A85F-EEC1165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7A0C-2380-4126-8363-CE6220C0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D470-78AC-40E3-AB37-D74E5E80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7933-0FCD-47B9-BCE2-AB580679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3A63-71A6-4276-A5B9-2F60ED28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983F-3FEE-4508-B1F4-B51B64D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928C7-4F1B-41EB-8838-B997551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E19-FBB3-4BC1-A89C-AC2DB902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F21B-7163-4F7B-BFBF-3013E29B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3BC9-E50D-42B2-B388-092201F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3714-817D-4B39-A122-BD454FFC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7F79-0224-4C4F-A387-0B1FC08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F85B-3803-47CA-8B02-5B0B0FB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2E3F-23D0-47BF-AFDF-76E1A28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01F4-DB99-4E8F-9BB3-81DC9C5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4A93-B0C1-4EC8-8163-E846AA80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460A-6E81-4918-8A2F-C4785DF9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5FA5-DB0B-41E8-91A3-BB7F8364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06B-8EC4-4012-BD02-74E11AB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EBD9-F04B-463A-8F55-98D82A81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DB9F-EFB8-4243-9E20-0658A266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E798-F0F1-4C4F-B082-1376F9B1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D36A-E7AD-4753-9281-C1788EBB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7C23-7743-4370-8EFD-9092CBA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93769-C6B5-4F07-809C-93AC1AA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302B-300B-4949-B1C2-B6231BE1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AF39-F198-4A1B-A464-4B36BFC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727B-BE43-4B74-AB4E-015B900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A987-F13D-4810-831C-ED00002B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A45-E0AF-4AAD-BC09-28298760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745F-0343-4B37-BF1F-7EA1BCCA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8326-7787-40D9-A2BA-4AE26744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6A5A-A6A6-4D82-943C-992AA977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EBB6-482C-4507-908D-086AD55D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6515-DCAD-421F-B980-9A3D3E9E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2BC0B-50BD-41E4-86C3-3AC1F59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354B-584F-4F70-8544-543787AD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1E8B2-0B08-4EB0-90FF-4729DB7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EAF9-4F9F-45C2-B0BF-2B8BA84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40F9-B54F-47A4-BB7D-B8D462F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AC0-31F4-4B5B-9F18-7B32271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84B8-03BC-40C7-8628-EFF65CC6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BDBF-0967-4F88-B238-17E036C6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7887-3DD7-4A1C-8C86-EFDD3C36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9FF7-ED92-4218-B3C8-F2CD096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9A20-41D9-4227-B8D4-8120F8BF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E7157-B460-4D0C-9C4C-97E9859D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521E-7229-4ADE-89AE-3F26322A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94349-1BE1-40F1-8AFE-834413DA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9015-2EB9-4D0E-91BC-8CAB7E7F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BFF43-4A11-4802-8C21-B700102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1AC-85E2-4AEB-BF28-07EF580C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A61ED-2E67-45B3-BBA6-1943428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D073B-1CA0-4427-A08A-F982865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EEC6-050E-4922-BC9E-CF8952D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E11A-ACEC-449B-AFCD-25983670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BBEA7-9B0D-4AEE-99B9-87CE7774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55D2A-D4D8-442D-810A-267A996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0AAF-6E22-4BC0-8F55-6C27B3FE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127E-572A-45D4-B765-6330B31F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4995-F574-4AED-9CF1-CB450E91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E9CA-2676-4E88-8A2A-04A24574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3F1-A0AF-43DF-AF8A-BE4F8F8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E2A4-9CE6-4BAC-8B00-5A4D9AD2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D26CB-C412-41D4-ADC3-0844AAE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FF666-F193-47C2-9E20-A328119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8AC2-A949-496E-AEC9-911883B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A58FD-FDCC-4959-9E70-E5C94C9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46DF5-D08A-4965-8182-2E1AE0C4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555C-3570-4BF3-947E-D544241F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4F941-013C-44FD-8015-B6AB00EE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6DB62-38DE-42C8-BBA9-F84DC11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421DC-7C29-43C3-BC0C-65796EC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1B6-F647-4B1F-ABA3-23472A41A2EA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197F-8D46-4AC2-8DCC-1289391F07F4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E9B2-A340-4A8B-B7EE-BA7AC6D949A3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6A02-AE61-4AB8-92B1-7C7791D6E939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6FD6-884C-4A65-AC25-9C8EE42982BB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A53-73FE-45C7-9E09-9999C831AC5D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1C0-52E0-42D0-BEFA-1037EBE96578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7684-DC7A-47F9-9BEA-A59E3A030307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DE0-D3FE-42D8-BA94-BD802EC9A1EC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0D6-A7F1-4CD3-86F3-01E72D3B60B3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AB42-42B1-4091-846A-5CBC534627A6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2EC6-C16F-46B9-8AB9-2A714DB10293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F55E-0EC6-47AD-B2C9-E00800D1F709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B17-CFDD-4C77-9D4C-9476BABE5C7C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2E9-7D8B-4FE8-A86E-C9F6D45C990D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8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CA8E-1A49-4358-963D-7E7A9ED5435F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D21-1E33-43DA-A712-E7889E9E80B2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3DAF-6EE0-4C1A-B135-0E2E3BA8A642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52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15E2-E90D-4340-B99C-946D1EEFE5F4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4BB3-830B-453B-9D2C-35B2286C4D69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587-F892-42A8-ACC1-5B8F05347C74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AAEA-1C3C-4A6D-B309-CD892F32C146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CF0E-11B5-4A49-8FD8-EAE3046C0B00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6A6-A215-4D28-8A85-20C37A7CF979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8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3885-B9E3-4C0D-8662-0175D8EF5D56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9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60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53D6-D7BB-410B-89D8-402696AE1FAF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DFD8-541E-4896-B5CF-824FC2716E7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B8C-BFC0-4A51-BA00-D78BB8E52E6C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43AD-FE1E-4024-A2E2-28D90D7B07D6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C80-287D-4F4B-BA1C-033BA72F31EA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E0C-7653-4D16-AFF4-A42691A38D97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E70-F0A4-49E6-84CB-540AE7B5A794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D29-C4E9-459F-98C4-19D81FE06F53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AFCA-012A-4FE2-BB56-30A2DF5A40B3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C08E-9E28-4934-ABA0-E1BFEE6B76B6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F2BF-78DB-4E47-A365-1ACDC947981B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AAB7-9FE3-4636-9BF1-74E78926D635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8C10-B5D9-4156-B1F5-A52B7E1D19DE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4DDB-B66D-4156-A524-EC614E170169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B3C-5793-47F5-A676-50042B515897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スライド番号プレースホルダー 3"/>
          <p:cNvSpPr/>
          <p:nvPr/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6DC-1D34-4FC4-AFC4-7A8133835D9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31520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オープンデータの取り組み</a:t>
            </a:r>
            <a:br>
              <a:rPr sz="4800"/>
            </a:b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について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令和２年１月７日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流山市　総合政策部　情報政策・改革改善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課長補佐　佐藤　慎一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59F9-2241-4F58-83AF-7A710473274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デー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オープンデータでは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テキスト ボックス 7"/>
          <p:cNvSpPr/>
          <p:nvPr/>
        </p:nvSpPr>
        <p:spPr>
          <a:xfrm>
            <a:off x="395280" y="177336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ec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価値あるデ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テキスト ボックス 8"/>
          <p:cNvSpPr/>
          <p:nvPr/>
        </p:nvSpPr>
        <p:spPr>
          <a:xfrm>
            <a:off x="2627280" y="1773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0d5d7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Ｐゴシック"/>
              </a:rPr>
              <a:t>使いやすい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正方形/長方形 9"/>
          <p:cNvSpPr/>
          <p:nvPr/>
        </p:nvSpPr>
        <p:spPr>
          <a:xfrm>
            <a:off x="2050920" y="184464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e5d7b"/>
                </a:solidFill>
                <a:latin typeface="ＭＳ Ｐゴシック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右矢印 10"/>
          <p:cNvSpPr/>
          <p:nvPr/>
        </p:nvSpPr>
        <p:spPr>
          <a:xfrm>
            <a:off x="5219640" y="1916280"/>
            <a:ext cx="289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e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87" name="テキスト ボックス 11"/>
          <p:cNvGrpSpPr/>
          <p:nvPr/>
        </p:nvGrpSpPr>
        <p:grpSpPr>
          <a:xfrm>
            <a:off x="5705640" y="1542960"/>
            <a:ext cx="2914560" cy="1108080"/>
            <a:chOff x="5705640" y="1542960"/>
            <a:chExt cx="2914560" cy="1108080"/>
          </a:xfrm>
        </p:grpSpPr>
        <p:pic>
          <p:nvPicPr>
            <p:cNvPr id="888" name="テキスト ボックス 11" descr=""/>
            <p:cNvPicPr/>
            <p:nvPr/>
          </p:nvPicPr>
          <p:blipFill>
            <a:blip r:embed="rId1"/>
            <a:stretch/>
          </p:blipFill>
          <p:spPr>
            <a:xfrm>
              <a:off x="5705640" y="1542960"/>
              <a:ext cx="2914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183"/>
            <p:cNvSpPr/>
            <p:nvPr/>
          </p:nvSpPr>
          <p:spPr>
            <a:xfrm>
              <a:off x="5776920" y="1609560"/>
              <a:ext cx="2774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コンピュータで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扱いやすいこと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0" name="正方形/長方形 12"/>
          <p:cNvGrpSpPr/>
          <p:nvPr/>
        </p:nvGrpSpPr>
        <p:grpSpPr>
          <a:xfrm>
            <a:off x="669960" y="4280040"/>
            <a:ext cx="8096040" cy="1395360"/>
            <a:chOff x="669960" y="4280040"/>
            <a:chExt cx="8096040" cy="1395360"/>
          </a:xfrm>
        </p:grpSpPr>
        <p:pic>
          <p:nvPicPr>
            <p:cNvPr id="891" name="正方形/長方形 12" descr=""/>
            <p:cNvPicPr/>
            <p:nvPr/>
          </p:nvPicPr>
          <p:blipFill>
            <a:blip r:embed="rId2"/>
            <a:stretch/>
          </p:blipFill>
          <p:spPr>
            <a:xfrm>
              <a:off x="669960" y="4280040"/>
              <a:ext cx="8096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Rectangle 186"/>
            <p:cNvSpPr/>
            <p:nvPr/>
          </p:nvSpPr>
          <p:spPr>
            <a:xfrm>
              <a:off x="684360" y="4292640"/>
              <a:ext cx="8064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コンピュータが読み取りやすい形であることを「機械判読に適している」という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データの構造（例えばタイトルや図表等）をコンピュータが判別しやすく、構造の中の値（例えば数値やテキスト等）が処理しやすい形式になっていることを表す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3" name="グループ化 13"/>
          <p:cNvGrpSpPr/>
          <p:nvPr/>
        </p:nvGrpSpPr>
        <p:grpSpPr>
          <a:xfrm>
            <a:off x="2556000" y="3716280"/>
            <a:ext cx="3960720" cy="73080"/>
            <a:chOff x="2556000" y="3716280"/>
            <a:chExt cx="3960720" cy="73080"/>
          </a:xfrm>
        </p:grpSpPr>
        <p:sp>
          <p:nvSpPr>
            <p:cNvPr id="894" name="直線コネクタ 14"/>
            <p:cNvSpPr/>
            <p:nvPr/>
          </p:nvSpPr>
          <p:spPr>
            <a:xfrm>
              <a:off x="2556000" y="371628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5" name="直線コネクタ 15"/>
            <p:cNvSpPr/>
            <p:nvPr/>
          </p:nvSpPr>
          <p:spPr>
            <a:xfrm>
              <a:off x="2556000" y="378936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96" name="下矢印 35"/>
          <p:cNvSpPr/>
          <p:nvPr/>
        </p:nvSpPr>
        <p:spPr>
          <a:xfrm>
            <a:off x="4356000" y="3933720"/>
            <a:ext cx="432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d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正方形/長方形 17"/>
          <p:cNvSpPr/>
          <p:nvPr/>
        </p:nvSpPr>
        <p:spPr>
          <a:xfrm>
            <a:off x="755640" y="328464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は、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コンピュータが読み取りやすい形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が望ましい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テキスト ボックス 6"/>
          <p:cNvSpPr/>
          <p:nvPr/>
        </p:nvSpPr>
        <p:spPr>
          <a:xfrm>
            <a:off x="669960" y="56610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図 1" descr=""/>
          <p:cNvPicPr/>
          <p:nvPr/>
        </p:nvPicPr>
        <p:blipFill>
          <a:blip r:embed="rId1"/>
          <a:stretch/>
        </p:blipFill>
        <p:spPr>
          <a:xfrm>
            <a:off x="390600" y="1123920"/>
            <a:ext cx="8362800" cy="4753080"/>
          </a:xfrm>
          <a:prstGeom prst="rect">
            <a:avLst/>
          </a:prstGeom>
          <a:ln w="0">
            <a:noFill/>
          </a:ln>
        </p:spPr>
      </p:pic>
      <p:sp>
        <p:nvSpPr>
          <p:cNvPr id="90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BEB-0863-44C0-A71A-B4C5DB27B7D8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ファイル形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2" name="テキスト ボックス 7"/>
          <p:cNvSpPr/>
          <p:nvPr/>
        </p:nvSpPr>
        <p:spPr>
          <a:xfrm>
            <a:off x="468360" y="907920"/>
            <a:ext cx="3382920" cy="1800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Licens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usabl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F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R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niform Resource Identifi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inke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テキスト ボックス 6"/>
          <p:cNvSpPr/>
          <p:nvPr/>
        </p:nvSpPr>
        <p:spPr>
          <a:xfrm>
            <a:off x="390600" y="5872320"/>
            <a:ext cx="83628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リーダ育成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F26A-0EE2-4E6A-BF83-289A225AEE0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の種類に適したファイル形式の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6" name="正方形/長方形 4"/>
          <p:cNvSpPr/>
          <p:nvPr/>
        </p:nvSpPr>
        <p:spPr>
          <a:xfrm>
            <a:off x="496800" y="1052640"/>
            <a:ext cx="831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情報の種類によって、適したファイル形式も異な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784080" y="1557360"/>
          <a:ext cx="7713720" cy="2814480"/>
        </p:xfrm>
        <a:graphic>
          <a:graphicData uri="http://schemas.openxmlformats.org/drawingml/2006/table">
            <a:tbl>
              <a:tblPr/>
              <a:tblGrid>
                <a:gridCol w="4176720"/>
                <a:gridCol w="1876680"/>
                <a:gridCol w="166032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情報の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ファイル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計情報、施設の一覧など一覧形式となっている情報、予算・決算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表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SV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報告書など、文章による情報や、図形、画像等が混在している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書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主に地図と組合せて利用する情報で、線や面などのデータを含むも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理空間情報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  <p:sp>
        <p:nvSpPr>
          <p:cNvPr id="908" name="正方形/長方形 7"/>
          <p:cNvSpPr/>
          <p:nvPr/>
        </p:nvSpPr>
        <p:spPr>
          <a:xfrm>
            <a:off x="1073160" y="5157720"/>
            <a:ext cx="7424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オープンデータとして公開する際は、利用者が加工しやすく、コンピュ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プログラムが処理しやすい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形式」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星 16 27"/>
          <p:cNvSpPr/>
          <p:nvPr/>
        </p:nvSpPr>
        <p:spPr>
          <a:xfrm>
            <a:off x="712800" y="4653000"/>
            <a:ext cx="1224000" cy="64764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5a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ＭＳ Ｐゴシック"/>
              </a:rPr>
              <a:t>オススメ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88F-E49B-48C3-8B3B-27DA03679ABD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正方形/長方形 8"/>
          <p:cNvSpPr/>
          <p:nvPr/>
        </p:nvSpPr>
        <p:spPr>
          <a:xfrm>
            <a:off x="539640" y="907920"/>
            <a:ext cx="83534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世界最先端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国家創造宣言・官民データ活用推進基本計画における重点分野や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「地方公共団体アンケート」（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実施）における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ニーズの高い分野を中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心に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先進地方公共団体の公開済データ等を参考にしつつ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データセットを選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推奨データセット」は、地方公共団体によるオープンデータの公開とその利活用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促進するため、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オープンデータに取り組み始める地方公共団体の参考となるよう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公開することが推奨されるデータセット及びフォーマット標準例をとりまとめたも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82692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2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介護サービス事業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医療機関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化財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観光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7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無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L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クセスポイ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471636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8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トイレ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9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消防水利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指定緊急避難場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共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子育て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sp>
        <p:nvSpPr>
          <p:cNvPr id="917" name="正方形/長方形 11"/>
          <p:cNvSpPr/>
          <p:nvPr/>
        </p:nvSpPr>
        <p:spPr>
          <a:xfrm>
            <a:off x="826920" y="5904000"/>
            <a:ext cx="763272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日　内閣官房情報通信技術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総合戦略室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「推奨データセットについて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19D-1C68-4BBE-9DED-BA37589C7749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一覧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0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正方形/長方形 12"/>
          <p:cNvSpPr/>
          <p:nvPr/>
        </p:nvSpPr>
        <p:spPr>
          <a:xfrm>
            <a:off x="858960" y="6093000"/>
            <a:ext cx="7445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「オープンデータ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https://cio.go.jp/policy-opendata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テキスト ボックス 14"/>
          <p:cNvSpPr/>
          <p:nvPr/>
        </p:nvSpPr>
        <p:spPr>
          <a:xfrm>
            <a:off x="284040" y="692280"/>
            <a:ext cx="871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作成にあたり準拠すべきルールやフォーマット等は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に公開され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3" name="図 1" descr=""/>
          <p:cNvPicPr/>
          <p:nvPr/>
        </p:nvPicPr>
        <p:blipFill>
          <a:blip r:embed="rId1"/>
          <a:stretch/>
        </p:blipFill>
        <p:spPr>
          <a:xfrm>
            <a:off x="826920" y="1311120"/>
            <a:ext cx="74772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図 1" descr=""/>
          <p:cNvPicPr/>
          <p:nvPr/>
        </p:nvPicPr>
        <p:blipFill>
          <a:blip r:embed="rId1"/>
          <a:stretch/>
        </p:blipFill>
        <p:spPr>
          <a:xfrm>
            <a:off x="343080" y="1989000"/>
            <a:ext cx="8458200" cy="2752920"/>
          </a:xfrm>
          <a:prstGeom prst="rect">
            <a:avLst/>
          </a:prstGeom>
          <a:ln w="0">
            <a:noFill/>
          </a:ln>
        </p:spPr>
      </p:pic>
      <p:sp>
        <p:nvSpPr>
          <p:cNvPr id="92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CAF1-A0AC-4BBF-AD31-541958D1A89F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2060"/>
                </a:solidFill>
                <a:latin typeface="メイリオ"/>
              </a:rPr>
              <a:t>推奨データセット作成にあたり準拠すべきルール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正方形/長方形 7"/>
          <p:cNvSpPr/>
          <p:nvPr/>
        </p:nvSpPr>
        <p:spPr>
          <a:xfrm>
            <a:off x="539640" y="93672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ごとに、項目を公開する際のデータ形式等がデータ項目定義書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定められて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正方形/長方形 8"/>
          <p:cNvSpPr/>
          <p:nvPr/>
        </p:nvSpPr>
        <p:spPr>
          <a:xfrm>
            <a:off x="380880" y="4741920"/>
            <a:ext cx="8583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月３日　内閣官房情報通信技術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総合戦略室「データ項目定義書（ベータ版）」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テキスト ボックス 10"/>
          <p:cNvSpPr/>
          <p:nvPr/>
        </p:nvSpPr>
        <p:spPr>
          <a:xfrm>
            <a:off x="3730680" y="1282680"/>
            <a:ext cx="5089320" cy="671400"/>
          </a:xfrm>
          <a:prstGeom prst="wedgeRoundRectCallout">
            <a:avLst>
              <a:gd name="adj1" fmla="val -82532"/>
              <a:gd name="adj2" fmla="val 80912"/>
              <a:gd name="adj3" fmla="val 16667"/>
            </a:avLst>
          </a:prstGeom>
          <a:solidFill>
            <a:srgbClr val="ffffff"/>
          </a:solidFill>
          <a:ln w="19080">
            <a:solidFill>
              <a:srgbClr val="a8163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区分（必須・任意等）を参考に保有している情報から公開を進めることを推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正方形/長方形 11"/>
          <p:cNvSpPr/>
          <p:nvPr/>
        </p:nvSpPr>
        <p:spPr>
          <a:xfrm>
            <a:off x="395280" y="5059440"/>
            <a:ext cx="8361360" cy="17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凡例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：データセットの核となる必須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〇　　：該当推奨データセットを活用したアプリの基本機能を簡単に実現するため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空白 ：該当推奨データセットを活用したアプリの利便性の高い付加価値サービス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現するために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正方形/長方形 15"/>
          <p:cNvSpPr/>
          <p:nvPr/>
        </p:nvSpPr>
        <p:spPr>
          <a:xfrm>
            <a:off x="380880" y="1484280"/>
            <a:ext cx="851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緊急避難場所一覧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2FF2-D899-4AF3-8A9E-873893A2B74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継続していくための取組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正方形/長方形 28"/>
          <p:cNvSpPr/>
          <p:nvPr/>
        </p:nvSpPr>
        <p:spPr>
          <a:xfrm>
            <a:off x="395280" y="4292640"/>
            <a:ext cx="5329080" cy="43344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オープンデータを継続していくための取り組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額縁 50"/>
          <p:cNvSpPr/>
          <p:nvPr/>
        </p:nvSpPr>
        <p:spPr>
          <a:xfrm>
            <a:off x="900000" y="558972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2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オープンデータを拡充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額縁 51"/>
          <p:cNvSpPr/>
          <p:nvPr/>
        </p:nvSpPr>
        <p:spPr>
          <a:xfrm>
            <a:off x="900000" y="486900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1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公開したオープンデータを更新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テキスト ボックス 6"/>
          <p:cNvSpPr/>
          <p:nvPr/>
        </p:nvSpPr>
        <p:spPr>
          <a:xfrm>
            <a:off x="669960" y="623736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40" name="図 1" descr=""/>
          <p:cNvPicPr/>
          <p:nvPr/>
        </p:nvPicPr>
        <p:blipFill>
          <a:blip r:embed="rId1"/>
          <a:stretch/>
        </p:blipFill>
        <p:spPr>
          <a:xfrm>
            <a:off x="357120" y="892080"/>
            <a:ext cx="8429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F43-7182-40A4-9A85-FE2890FFC76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更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正方形/長方形 67"/>
          <p:cNvSpPr/>
          <p:nvPr/>
        </p:nvSpPr>
        <p:spPr>
          <a:xfrm>
            <a:off x="284040" y="148428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方法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正方形/長方形 68"/>
          <p:cNvSpPr/>
          <p:nvPr/>
        </p:nvSpPr>
        <p:spPr>
          <a:xfrm>
            <a:off x="324000" y="907920"/>
            <a:ext cx="805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データの内容に応じて、更新方法や更新タイミングを決め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324000" y="1989000"/>
          <a:ext cx="8569080" cy="114012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の内容を、新しいものに置き換え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しくオープンデータを追加してい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7" name="正方形/長方形 70"/>
          <p:cNvSpPr/>
          <p:nvPr/>
        </p:nvSpPr>
        <p:spPr>
          <a:xfrm>
            <a:off x="284040" y="378936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タイミング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324000" y="4292640"/>
          <a:ext cx="8569080" cy="165420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タイミ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随時変更が発生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⇒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団体内でオープンデータを更新する周期を決め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元のデータの更新に合わせて、定期的にオープンデータの変更や追加を行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9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BC4-9988-4BCB-AF0C-419397C80FD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（データ）のあり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Rectangle 186"/>
          <p:cNvSpPr/>
          <p:nvPr/>
        </p:nvSpPr>
        <p:spPr>
          <a:xfrm>
            <a:off x="684360" y="2060640"/>
            <a:ext cx="8064360" cy="312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２条（情報公開の総合的な推進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７条（情報の提供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自治基本条例第８条（情報共有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Rectangle 186"/>
          <p:cNvSpPr/>
          <p:nvPr/>
        </p:nvSpPr>
        <p:spPr>
          <a:xfrm>
            <a:off x="684360" y="1197000"/>
            <a:ext cx="8064360" cy="863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公開・情報提供→情報共有・情報活用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D8A-0E71-4A2C-849E-9B2BCC0DFF7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循環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68360" y="1098720"/>
          <a:ext cx="8207280" cy="48513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2263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協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社会課題を解決するためのサービ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を開発し、実装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環境整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活用を前提とした標準化された形式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内容のデータを生成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</a:tr>
              <a:tr h="2587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参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社会課題探索の中で、データの価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を発見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透明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データを権利処理した形で一元的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提供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</a:tr>
            </a:tbl>
          </a:graphicData>
        </a:graphic>
      </p:graphicFrame>
      <p:sp>
        <p:nvSpPr>
          <p:cNvPr id="957" name="左カーブ矢印 11"/>
          <p:cNvSpPr/>
          <p:nvPr/>
        </p:nvSpPr>
        <p:spPr>
          <a:xfrm rot="5400000">
            <a:off x="4244040" y="3234240"/>
            <a:ext cx="493560" cy="882720"/>
          </a:xfrm>
          <a:custGeom>
            <a:avLst/>
            <a:gdLst>
              <a:gd name="textAreaLeft" fmla="*/ 65880 w 493560"/>
              <a:gd name="textAreaRight" fmla="*/ 427680 w 493560"/>
              <a:gd name="textAreaTop" fmla="*/ 174240 h 882720"/>
              <a:gd name="textAreaBottom" fmla="*/ 64656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3410179"/>
                <a:lnTo>
                  <a:pt x="5400" y="21329"/>
                </a:lnTo>
                <a:lnTo>
                  <a:pt x="0" y="18580"/>
                </a:lnTo>
                <a:lnTo>
                  <a:pt x="5400" y="15288"/>
                </a:lnTo>
                <a:lnTo>
                  <a:pt x="5400" y="16798"/>
                </a:lnTo>
                <a:arcTo wR="21600" hR="8535" stAng="3410179" swAng="-3166330"/>
                <a:lnTo>
                  <a:pt x="21259" y="10045"/>
                </a:lnTo>
                <a:arcTo wR="21600" hR="8535" stAng="-243850" swAng="-5156150"/>
                <a:close/>
              </a:path>
              <a:path fill="darkenLess"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-243850"/>
                <a:lnTo>
                  <a:pt x="21259" y="10045"/>
                </a:lnTo>
                <a:arcTo wR="21600" hR="8535" stAng="-243850" swAng="-5156150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左カーブ矢印 13"/>
          <p:cNvSpPr/>
          <p:nvPr/>
        </p:nvSpPr>
        <p:spPr>
          <a:xfrm rot="16200000">
            <a:off x="4300200" y="2571120"/>
            <a:ext cx="543240" cy="1044720"/>
          </a:xfrm>
          <a:custGeom>
            <a:avLst/>
            <a:gdLst>
              <a:gd name="textAreaLeft" fmla="*/ 72720 w 543240"/>
              <a:gd name="textAreaRight" fmla="*/ 470520 w 543240"/>
              <a:gd name="textAreaTop" fmla="*/ 210240 h 1044720"/>
              <a:gd name="textAreaBottom" fmla="*/ 76680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3439399"/>
                <a:lnTo>
                  <a:pt x="5400" y="21324"/>
                </a:lnTo>
                <a:lnTo>
                  <a:pt x="0" y="18794"/>
                </a:lnTo>
                <a:lnTo>
                  <a:pt x="5400" y="15711"/>
                </a:lnTo>
                <a:lnTo>
                  <a:pt x="5400" y="17114"/>
                </a:lnTo>
                <a:arcTo wR="21600" hR="8695" stAng="3439399" swAng="-3213383"/>
                <a:lnTo>
                  <a:pt x="21317" y="10099"/>
                </a:lnTo>
                <a:arcTo wR="21600" hR="8695" stAng="-226016" swAng="-5173984"/>
                <a:close/>
              </a:path>
              <a:path fill="darkenLess"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-226016"/>
                <a:lnTo>
                  <a:pt x="21317" y="10099"/>
                </a:lnTo>
                <a:arcTo wR="21600" hR="8695" stAng="-226016" swAng="-5173984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ACBC-1E6A-4367-A39E-066BA8071D54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サブタイトル 2"/>
          <p:cNvSpPr/>
          <p:nvPr/>
        </p:nvSpPr>
        <p:spPr>
          <a:xfrm>
            <a:off x="468360" y="3875040"/>
            <a:ext cx="8280360" cy="895320"/>
          </a:xfrm>
          <a:prstGeom prst="rect">
            <a:avLst/>
          </a:prstGeom>
          <a:solidFill>
            <a:srgbClr val="cb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４年１０月１日ホームページリニューアルが契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市議会と共にトライアル（試行）を開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始めたきっかけ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サブタイトル 2"/>
          <p:cNvSpPr/>
          <p:nvPr/>
        </p:nvSpPr>
        <p:spPr>
          <a:xfrm>
            <a:off x="468360" y="4738680"/>
            <a:ext cx="8280360" cy="1695600"/>
          </a:xfrm>
          <a:prstGeom prst="rect">
            <a:avLst/>
          </a:prstGeom>
          <a:solidFill>
            <a:srgbClr val="e9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等で既に掲載しているデータを対象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公共施設所在地、文化財、投票所所在地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ED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設置場所、避難場所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駐輪場（自転車駐車場）、ごみの収集曜日、ごみの分別・処分方法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年齢別・男女別人口、町丁字別人口　　等　　２５種類の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3" name="図 1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82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A76F-44A4-4971-B318-FC7FDCBE0FDF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28560" y="8366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原則情報は公開し活用してもらう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45840" y="1832040"/>
            <a:ext cx="788652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個人情報保護条例第２条１項（定義）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→特定の個人が識別され、又は識別され得るもの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 u="sng">
                <a:solidFill>
                  <a:srgbClr val="ff0000"/>
                </a:solidFill>
                <a:uFillTx/>
                <a:latin typeface="ＭＳ Ｐゴシック"/>
              </a:rPr>
              <a:t>つまり特定の個人が識別されなければ原則情報を公開する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ＭＳ Ｐゴシック"/>
              </a:rPr>
              <a:t>公開した情報をどんどん活用してもらう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下矢印 3"/>
          <p:cNvSpPr/>
          <p:nvPr/>
        </p:nvSpPr>
        <p:spPr>
          <a:xfrm>
            <a:off x="3755880" y="3652920"/>
            <a:ext cx="96048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01538"/>
          </a:solidFill>
          <a:ln w="12600">
            <a:solidFill>
              <a:srgbClr val="a81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3022-D195-49A3-A889-80E272A4A3B0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45840" y="1616040"/>
            <a:ext cx="78865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ご清聴ありがとうございました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5" name="コンテンツ プレースホルダー 2"/>
          <p:cNvSpPr/>
          <p:nvPr/>
        </p:nvSpPr>
        <p:spPr>
          <a:xfrm>
            <a:off x="3051000" y="3141720"/>
            <a:ext cx="5985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総合政策部　情報政策・改革改善課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担当：佐藤　慎一郎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電話番号：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04-7150-6078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il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ieikaikaku@city.nagareyama.lg.j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B39-A6FE-4F76-8601-B6DA0B490AC5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サブタイトル 2"/>
          <p:cNvSpPr/>
          <p:nvPr/>
        </p:nvSpPr>
        <p:spPr>
          <a:xfrm>
            <a:off x="468360" y="4357800"/>
            <a:ext cx="8280360" cy="425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５年度及び平成２６年度にアプリコンテストを開催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アプリコンテストの実施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サブタイトル 2"/>
          <p:cNvSpPr/>
          <p:nvPr/>
        </p:nvSpPr>
        <p:spPr>
          <a:xfrm>
            <a:off x="468360" y="4753080"/>
            <a:ext cx="8280360" cy="198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流山のオープンデータを利用した、楽しい・便利なアプリを募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役所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議会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プログラミング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公開中のアプリ　　「ゴミ分別・処分方法検索アプリ」等　５件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8" name="図 1" descr=""/>
          <p:cNvPicPr/>
          <p:nvPr/>
        </p:nvPicPr>
        <p:blipFill>
          <a:blip r:embed="rId1"/>
          <a:stretch/>
        </p:blipFill>
        <p:spPr>
          <a:xfrm>
            <a:off x="1104840" y="858960"/>
            <a:ext cx="6934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74FE-506E-4DD6-BBB7-C07BA544A39F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活用した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正方形/長方形 17"/>
          <p:cNvSpPr/>
          <p:nvPr/>
        </p:nvSpPr>
        <p:spPr>
          <a:xfrm>
            <a:off x="971640" y="692280"/>
            <a:ext cx="7272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防災科学技術研究所との共同研究の一環として構築し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地域での各種活動を支援する地域ポータルサイト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正方形/長方形 17"/>
          <p:cNvSpPr/>
          <p:nvPr/>
        </p:nvSpPr>
        <p:spPr>
          <a:xfrm>
            <a:off x="1419120" y="6303960"/>
            <a:ext cx="632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://ecom-plat.jp/nagareyama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3" name="図 1" descr=""/>
          <p:cNvPicPr/>
          <p:nvPr/>
        </p:nvPicPr>
        <p:blipFill>
          <a:blip r:embed="rId1"/>
          <a:stretch/>
        </p:blipFill>
        <p:spPr>
          <a:xfrm>
            <a:off x="1419120" y="1346040"/>
            <a:ext cx="6305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F410-4A32-4AB0-B623-E4F1A316580D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流山市オープンデータカタログ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正方形/長方形 17"/>
          <p:cNvSpPr/>
          <p:nvPr/>
        </p:nvSpPr>
        <p:spPr>
          <a:xfrm>
            <a:off x="971640" y="69228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掲載件数　３５０件（令和元年１１月１日現在）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正方形/長方形 17"/>
          <p:cNvSpPr/>
          <p:nvPr/>
        </p:nvSpPr>
        <p:spPr>
          <a:xfrm>
            <a:off x="1428840" y="6453360"/>
            <a:ext cx="62863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s://www.city.nagareyama.chiba.jp/opendata/index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8" name="図 1" descr=""/>
          <p:cNvPicPr/>
          <p:nvPr/>
        </p:nvPicPr>
        <p:blipFill>
          <a:blip r:embed="rId1"/>
          <a:stretch/>
        </p:blipFill>
        <p:spPr>
          <a:xfrm>
            <a:off x="1428840" y="1125360"/>
            <a:ext cx="628632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E64F-CD93-41B0-8EFE-04CCA2F9B269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向けた課題と目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Rectangle 186"/>
          <p:cNvSpPr/>
          <p:nvPr/>
        </p:nvSpPr>
        <p:spPr>
          <a:xfrm>
            <a:off x="684360" y="1455840"/>
            <a:ext cx="8064360" cy="1973160"/>
          </a:xfrm>
          <a:prstGeom prst="rect">
            <a:avLst/>
          </a:prstGeom>
          <a:solidFill>
            <a:srgbClr val="ffe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なデータを対象と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作成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利用状況を把握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Rectangle 186"/>
          <p:cNvSpPr/>
          <p:nvPr/>
        </p:nvSpPr>
        <p:spPr>
          <a:xfrm>
            <a:off x="826920" y="1197000"/>
            <a:ext cx="107172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Rectangle 186"/>
          <p:cNvSpPr/>
          <p:nvPr/>
        </p:nvSpPr>
        <p:spPr>
          <a:xfrm>
            <a:off x="684360" y="4121280"/>
            <a:ext cx="8064360" cy="1539720"/>
          </a:xfrm>
          <a:prstGeom prst="rect">
            <a:avLst/>
          </a:prstGeom>
          <a:solidFill>
            <a:srgbClr val="e9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行政だけでなく住民、企業、ＮＰＯ等に使ってもら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を充実させ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Rectangle 186"/>
          <p:cNvSpPr/>
          <p:nvPr/>
        </p:nvSpPr>
        <p:spPr>
          <a:xfrm>
            <a:off x="826920" y="3860640"/>
            <a:ext cx="1071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EAD0-D407-493A-81FD-D6B32125AB6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ガイドラインの作成と職員研修の実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Rectangle 186"/>
          <p:cNvSpPr/>
          <p:nvPr/>
        </p:nvSpPr>
        <p:spPr>
          <a:xfrm>
            <a:off x="684360" y="1773360"/>
            <a:ext cx="8064360" cy="1501560"/>
          </a:xfrm>
          <a:prstGeom prst="rect">
            <a:avLst/>
          </a:prstGeom>
          <a:solidFill>
            <a:srgbClr val="e8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必要性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目的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形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Rectangle 186"/>
          <p:cNvSpPr/>
          <p:nvPr/>
        </p:nvSpPr>
        <p:spPr>
          <a:xfrm>
            <a:off x="684360" y="1197000"/>
            <a:ext cx="806436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推進に関するガイドライ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Rectangle 186"/>
          <p:cNvSpPr/>
          <p:nvPr/>
        </p:nvSpPr>
        <p:spPr>
          <a:xfrm>
            <a:off x="684360" y="4194000"/>
            <a:ext cx="8064360" cy="2082960"/>
          </a:xfrm>
          <a:prstGeom prst="rect">
            <a:avLst/>
          </a:pr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管理職向けにオープンデータの概要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一般職員向けにオープンデータの公開手順（外部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の重要性（市長講話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講習（総務省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Rectangle 186"/>
          <p:cNvSpPr/>
          <p:nvPr/>
        </p:nvSpPr>
        <p:spPr>
          <a:xfrm>
            <a:off x="684360" y="3645000"/>
            <a:ext cx="8064360" cy="576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職員研修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206-840B-4144-9BA5-7A5080193A98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の掘り起こし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各所管課で保有しているデータを掘り起こ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正方形/長方形 20"/>
          <p:cNvSpPr/>
          <p:nvPr/>
        </p:nvSpPr>
        <p:spPr>
          <a:xfrm>
            <a:off x="324000" y="236844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掘り起こしイメー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08000" y="2728800"/>
          <a:ext cx="8856720" cy="3224160"/>
        </p:xfrm>
        <a:graphic>
          <a:graphicData uri="http://schemas.openxmlformats.org/drawingml/2006/table">
            <a:tbl>
              <a:tblPr/>
              <a:tblGrid>
                <a:gridCol w="1655640"/>
                <a:gridCol w="1728720"/>
                <a:gridCol w="1008360"/>
                <a:gridCol w="1079280"/>
                <a:gridCol w="839880"/>
                <a:gridCol w="888840"/>
                <a:gridCol w="792360"/>
                <a:gridCol w="863640"/>
              </a:tblGrid>
              <a:tr h="83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情報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管理担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部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頻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他者権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ニー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○○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財政調整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△△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スポッ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商工振興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イベント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秘書広報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html,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●●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設置場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防災危機管理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紙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▲▲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市民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四半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76B-1C23-41FF-A916-5A4F910DFF00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掘り起こしの着目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86"/>
          <p:cNvSpPr/>
          <p:nvPr/>
        </p:nvSpPr>
        <p:spPr>
          <a:xfrm>
            <a:off x="684360" y="836640"/>
            <a:ext cx="8064360" cy="4492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国や県へ報告した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エクセルを利用している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決算審査時に作成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システムから抽出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調査やアンケートの結果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届出件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グラフ化した元の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変動する数字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参加者人数　　　　　　　　　　　　　　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Rectangle 186"/>
          <p:cNvSpPr/>
          <p:nvPr/>
        </p:nvSpPr>
        <p:spPr>
          <a:xfrm>
            <a:off x="684360" y="5516640"/>
            <a:ext cx="8064360" cy="576360"/>
          </a:xfrm>
          <a:prstGeom prst="rect">
            <a:avLst/>
          </a:prstGeom>
          <a:solidFill>
            <a:srgbClr val="ff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庁外からのオープンデータダウンロード実績集計結果も活用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8T02:47:22Z</dcterms:created>
  <dc:creator/>
  <dc:description/>
  <cp:keywords/>
  <dc:language>en-US</dc:language>
  <cp:lastModifiedBy/>
  <dcterms:modified xsi:type="dcterms:W3CDTF">2020-01-08T02:47:38Z</dcterms:modified>
  <cp:revision>1</cp:revision>
  <dc:subject/>
  <dc:title/>
</cp:coreProperties>
</file>